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25040"/>
            <a:ext cx="7772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6120"/>
            <a:ext cx="7772400" cy="18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86280"/>
            <a:ext cx="7772400" cy="18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25040"/>
            <a:ext cx="7772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6120"/>
            <a:ext cx="3792600" cy="18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6120"/>
            <a:ext cx="3792600" cy="18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86280"/>
            <a:ext cx="3792600" cy="18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86280"/>
            <a:ext cx="3792600" cy="18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25040"/>
            <a:ext cx="7772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6120"/>
            <a:ext cx="2502360" cy="18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6120"/>
            <a:ext cx="2502360" cy="18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6120"/>
            <a:ext cx="2502360" cy="18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86280"/>
            <a:ext cx="2502360" cy="18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86280"/>
            <a:ext cx="2502360" cy="18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86280"/>
            <a:ext cx="2502360" cy="18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25040"/>
            <a:ext cx="7772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6120"/>
            <a:ext cx="7772400" cy="38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25040"/>
            <a:ext cx="7772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6120"/>
            <a:ext cx="7772400" cy="38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25040"/>
            <a:ext cx="7772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6120"/>
            <a:ext cx="3792600" cy="38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6120"/>
            <a:ext cx="3792600" cy="38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25040"/>
            <a:ext cx="7772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25040"/>
            <a:ext cx="77724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25040"/>
            <a:ext cx="7772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6120"/>
            <a:ext cx="3792600" cy="18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6120"/>
            <a:ext cx="3792600" cy="38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86280"/>
            <a:ext cx="3792600" cy="18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25040"/>
            <a:ext cx="7772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6120"/>
            <a:ext cx="3792600" cy="38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6120"/>
            <a:ext cx="3792600" cy="18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86280"/>
            <a:ext cx="3792600" cy="18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25040"/>
            <a:ext cx="7772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6120"/>
            <a:ext cx="3792600" cy="18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6120"/>
            <a:ext cx="3792600" cy="18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86280"/>
            <a:ext cx="7772400" cy="18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040" cy="6845040"/>
            <a:chOff x="0" y="0"/>
            <a:chExt cx="9131040" cy="68450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4556880" cy="34308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30800"/>
              <a:ext cx="4555440" cy="3414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720" y="0"/>
              <a:ext cx="4558320" cy="3430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720" y="3430800"/>
              <a:ext cx="4558320" cy="3414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293760" y="330120"/>
            <a:ext cx="8555040" cy="619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96720" y="425520"/>
            <a:ext cx="8348760" cy="6006960"/>
          </a:xfrm>
          <a:prstGeom prst="rect">
            <a:avLst/>
          </a:prstGeom>
          <a:solidFill>
            <a:srgbClr val="ff9900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73040" y="506520"/>
            <a:ext cx="8191440" cy="584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grpSp>
          <p:nvGrpSpPr>
            <p:cNvPr id="9" name=""/>
            <p:cNvGrpSpPr/>
            <p:nvPr/>
          </p:nvGrpSpPr>
          <p:grpSpPr>
            <a:xfrm>
              <a:off x="4102920" y="0"/>
              <a:ext cx="898200" cy="532800"/>
              <a:chOff x="4102920" y="0"/>
              <a:chExt cx="898200" cy="53280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4701240" y="0"/>
                <a:ext cx="299880" cy="532800"/>
                <a:chOff x="4701240" y="0"/>
                <a:chExt cx="299880" cy="53280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4847760" y="0"/>
                  <a:ext cx="153360" cy="532800"/>
                </a:xfrm>
                <a:custGeom>
                  <a:avLst/>
                  <a:gdLst/>
                  <a:ahLst/>
                  <a:rect l="l" t="t" r="r" b="b"/>
                  <a:pathLst>
                    <a:path w="89" h="325">
                      <a:moveTo>
                        <a:pt x="88" y="0"/>
                      </a:moveTo>
                      <a:lnTo>
                        <a:pt x="88" y="210"/>
                      </a:lnTo>
                      <a:lnTo>
                        <a:pt x="0" y="324"/>
                      </a:lnTo>
                      <a:lnTo>
                        <a:pt x="0" y="0"/>
                      </a:lnTo>
                      <a:lnTo>
                        <a:pt x="88" y="0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4701240" y="0"/>
                  <a:ext cx="148320" cy="532800"/>
                </a:xfrm>
                <a:custGeom>
                  <a:avLst/>
                  <a:gdLst/>
                  <a:ahLst/>
                  <a:rect l="l" t="t" r="r" b="b"/>
                  <a:pathLst>
                    <a:path w="86" h="325">
                      <a:moveTo>
                        <a:pt x="0" y="0"/>
                      </a:moveTo>
                      <a:lnTo>
                        <a:pt x="0" y="210"/>
                      </a:lnTo>
                      <a:lnTo>
                        <a:pt x="85" y="324"/>
                      </a:lnTo>
                      <a:lnTo>
                        <a:pt x="8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4401360" y="0"/>
                <a:ext cx="301320" cy="532800"/>
                <a:chOff x="4401360" y="0"/>
                <a:chExt cx="301320" cy="5328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4551120" y="0"/>
                  <a:ext cx="151560" cy="532800"/>
                </a:xfrm>
                <a:custGeom>
                  <a:avLst/>
                  <a:gdLst/>
                  <a:ahLst/>
                  <a:rect l="l" t="t" r="r" b="b"/>
                  <a:pathLst>
                    <a:path w="88" h="325">
                      <a:moveTo>
                        <a:pt x="87" y="0"/>
                      </a:moveTo>
                      <a:lnTo>
                        <a:pt x="87" y="210"/>
                      </a:lnTo>
                      <a:lnTo>
                        <a:pt x="0" y="324"/>
                      </a:lnTo>
                      <a:lnTo>
                        <a:pt x="0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4401360" y="0"/>
                  <a:ext cx="151560" cy="532800"/>
                </a:xfrm>
                <a:custGeom>
                  <a:avLst/>
                  <a:gdLst/>
                  <a:ahLst/>
                  <a:rect l="l" t="t" r="r" b="b"/>
                  <a:pathLst>
                    <a:path w="88" h="325">
                      <a:moveTo>
                        <a:pt x="0" y="0"/>
                      </a:moveTo>
                      <a:lnTo>
                        <a:pt x="0" y="210"/>
                      </a:lnTo>
                      <a:lnTo>
                        <a:pt x="87" y="324"/>
                      </a:lnTo>
                      <a:lnTo>
                        <a:pt x="8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4102920" y="0"/>
                <a:ext cx="299880" cy="532800"/>
                <a:chOff x="4102920" y="0"/>
                <a:chExt cx="299880" cy="532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4254480" y="0"/>
                  <a:ext cx="148320" cy="532800"/>
                </a:xfrm>
                <a:custGeom>
                  <a:avLst/>
                  <a:gdLst/>
                  <a:ahLst/>
                  <a:rect l="l" t="t" r="r" b="b"/>
                  <a:pathLst>
                    <a:path w="86" h="325">
                      <a:moveTo>
                        <a:pt x="85" y="0"/>
                      </a:moveTo>
                      <a:lnTo>
                        <a:pt x="85" y="210"/>
                      </a:lnTo>
                      <a:lnTo>
                        <a:pt x="0" y="324"/>
                      </a:lnTo>
                      <a:lnTo>
                        <a:pt x="0" y="0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4102920" y="0"/>
                  <a:ext cx="153360" cy="532800"/>
                </a:xfrm>
                <a:custGeom>
                  <a:avLst/>
                  <a:gdLst/>
                  <a:ahLst/>
                  <a:rect l="l" t="t" r="r" b="b"/>
                  <a:pathLst>
                    <a:path w="89" h="325">
                      <a:moveTo>
                        <a:pt x="0" y="0"/>
                      </a:moveTo>
                      <a:lnTo>
                        <a:pt x="0" y="210"/>
                      </a:lnTo>
                      <a:lnTo>
                        <a:pt x="88" y="324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" name=""/>
            <p:cNvGrpSpPr/>
            <p:nvPr/>
          </p:nvGrpSpPr>
          <p:grpSpPr>
            <a:xfrm>
              <a:off x="4102920" y="6325920"/>
              <a:ext cx="898200" cy="519840"/>
              <a:chOff x="4102920" y="6325920"/>
              <a:chExt cx="898200" cy="519840"/>
            </a:xfrm>
          </p:grpSpPr>
          <p:grpSp>
            <p:nvGrpSpPr>
              <p:cNvPr id="20" name=""/>
              <p:cNvGrpSpPr/>
              <p:nvPr/>
            </p:nvGrpSpPr>
            <p:grpSpPr>
              <a:xfrm>
                <a:off x="4701240" y="6325920"/>
                <a:ext cx="299880" cy="519840"/>
                <a:chOff x="4701240" y="6325920"/>
                <a:chExt cx="299880" cy="51984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4847760" y="6325920"/>
                  <a:ext cx="153360" cy="519840"/>
                </a:xfrm>
                <a:custGeom>
                  <a:avLst/>
                  <a:gdLst/>
                  <a:ahLst/>
                  <a:rect l="l" t="t" r="r" b="b"/>
                  <a:pathLst>
                    <a:path w="89" h="317">
                      <a:moveTo>
                        <a:pt x="88" y="316"/>
                      </a:moveTo>
                      <a:lnTo>
                        <a:pt x="88" y="111"/>
                      </a:lnTo>
                      <a:lnTo>
                        <a:pt x="0" y="0"/>
                      </a:lnTo>
                      <a:lnTo>
                        <a:pt x="0" y="316"/>
                      </a:lnTo>
                      <a:lnTo>
                        <a:pt x="88" y="316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4701240" y="6325920"/>
                  <a:ext cx="148320" cy="519840"/>
                </a:xfrm>
                <a:custGeom>
                  <a:avLst/>
                  <a:gdLst/>
                  <a:ahLst/>
                  <a:rect l="l" t="t" r="r" b="b"/>
                  <a:pathLst>
                    <a:path w="86" h="317">
                      <a:moveTo>
                        <a:pt x="0" y="316"/>
                      </a:moveTo>
                      <a:lnTo>
                        <a:pt x="0" y="111"/>
                      </a:lnTo>
                      <a:lnTo>
                        <a:pt x="85" y="0"/>
                      </a:lnTo>
                      <a:lnTo>
                        <a:pt x="85" y="316"/>
                      </a:lnTo>
                      <a:lnTo>
                        <a:pt x="0" y="316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" name=""/>
              <p:cNvGrpSpPr/>
              <p:nvPr/>
            </p:nvGrpSpPr>
            <p:grpSpPr>
              <a:xfrm>
                <a:off x="4401360" y="6325920"/>
                <a:ext cx="301320" cy="519840"/>
                <a:chOff x="4401360" y="6325920"/>
                <a:chExt cx="301320" cy="51984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4551120" y="6325920"/>
                  <a:ext cx="151560" cy="519840"/>
                </a:xfrm>
                <a:custGeom>
                  <a:avLst/>
                  <a:gdLst/>
                  <a:ahLst/>
                  <a:rect l="l" t="t" r="r" b="b"/>
                  <a:pathLst>
                    <a:path w="88" h="317">
                      <a:moveTo>
                        <a:pt x="87" y="316"/>
                      </a:moveTo>
                      <a:lnTo>
                        <a:pt x="87" y="111"/>
                      </a:lnTo>
                      <a:lnTo>
                        <a:pt x="0" y="0"/>
                      </a:lnTo>
                      <a:lnTo>
                        <a:pt x="0" y="316"/>
                      </a:lnTo>
                      <a:lnTo>
                        <a:pt x="87" y="316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4401360" y="6325920"/>
                  <a:ext cx="151560" cy="519840"/>
                </a:xfrm>
                <a:custGeom>
                  <a:avLst/>
                  <a:gdLst/>
                  <a:ahLst/>
                  <a:rect l="l" t="t" r="r" b="b"/>
                  <a:pathLst>
                    <a:path w="88" h="317">
                      <a:moveTo>
                        <a:pt x="0" y="316"/>
                      </a:moveTo>
                      <a:lnTo>
                        <a:pt x="0" y="111"/>
                      </a:lnTo>
                      <a:lnTo>
                        <a:pt x="87" y="0"/>
                      </a:lnTo>
                      <a:lnTo>
                        <a:pt x="87" y="316"/>
                      </a:lnTo>
                      <a:lnTo>
                        <a:pt x="0" y="316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4102920" y="6325920"/>
                <a:ext cx="299880" cy="519840"/>
                <a:chOff x="4102920" y="6325920"/>
                <a:chExt cx="299880" cy="51984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4254480" y="6325920"/>
                  <a:ext cx="148320" cy="519840"/>
                </a:xfrm>
                <a:custGeom>
                  <a:avLst/>
                  <a:gdLst/>
                  <a:ahLst/>
                  <a:rect l="l" t="t" r="r" b="b"/>
                  <a:pathLst>
                    <a:path w="86" h="317">
                      <a:moveTo>
                        <a:pt x="85" y="316"/>
                      </a:moveTo>
                      <a:lnTo>
                        <a:pt x="85" y="111"/>
                      </a:lnTo>
                      <a:lnTo>
                        <a:pt x="0" y="0"/>
                      </a:lnTo>
                      <a:lnTo>
                        <a:pt x="0" y="316"/>
                      </a:lnTo>
                      <a:lnTo>
                        <a:pt x="85" y="316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4102920" y="6325920"/>
                  <a:ext cx="153360" cy="519840"/>
                </a:xfrm>
                <a:custGeom>
                  <a:avLst/>
                  <a:gdLst/>
                  <a:ahLst/>
                  <a:rect l="l" t="t" r="r" b="b"/>
                  <a:pathLst>
                    <a:path w="89" h="317">
                      <a:moveTo>
                        <a:pt x="0" y="316"/>
                      </a:moveTo>
                      <a:lnTo>
                        <a:pt x="0" y="111"/>
                      </a:lnTo>
                      <a:lnTo>
                        <a:pt x="88" y="0"/>
                      </a:lnTo>
                      <a:lnTo>
                        <a:pt x="88" y="316"/>
                      </a:lnTo>
                      <a:lnTo>
                        <a:pt x="0" y="316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" name=""/>
            <p:cNvGrpSpPr/>
            <p:nvPr/>
          </p:nvGrpSpPr>
          <p:grpSpPr>
            <a:xfrm>
              <a:off x="0" y="2908440"/>
              <a:ext cx="496080" cy="1059840"/>
              <a:chOff x="0" y="2908440"/>
              <a:chExt cx="496080" cy="1059840"/>
            </a:xfrm>
          </p:grpSpPr>
          <p:grpSp>
            <p:nvGrpSpPr>
              <p:cNvPr id="30" name=""/>
              <p:cNvGrpSpPr/>
              <p:nvPr/>
            </p:nvGrpSpPr>
            <p:grpSpPr>
              <a:xfrm>
                <a:off x="0" y="3614400"/>
                <a:ext cx="496080" cy="353880"/>
                <a:chOff x="0" y="3614400"/>
                <a:chExt cx="496080" cy="35388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0" y="3789720"/>
                  <a:ext cx="496080" cy="178560"/>
                </a:xfrm>
                <a:custGeom>
                  <a:avLst/>
                  <a:gdLst/>
                  <a:ahLst/>
                  <a:rect l="l" t="t" r="r" b="b"/>
                  <a:pathLst>
                    <a:path w="288" h="109">
                      <a:moveTo>
                        <a:pt x="0" y="108"/>
                      </a:moveTo>
                      <a:lnTo>
                        <a:pt x="186" y="108"/>
                      </a:lnTo>
                      <a:lnTo>
                        <a:pt x="287" y="0"/>
                      </a:lnTo>
                      <a:lnTo>
                        <a:pt x="0" y="0"/>
                      </a:lnTo>
                      <a:lnTo>
                        <a:pt x="0" y="108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0" y="3614400"/>
                  <a:ext cx="496080" cy="176760"/>
                </a:xfrm>
                <a:custGeom>
                  <a:avLst/>
                  <a:gdLst/>
                  <a:ahLst/>
                  <a:rect l="l" t="t" r="r" b="b"/>
                  <a:pathLst>
                    <a:path w="288" h="108">
                      <a:moveTo>
                        <a:pt x="0" y="0"/>
                      </a:moveTo>
                      <a:lnTo>
                        <a:pt x="186" y="0"/>
                      </a:lnTo>
                      <a:lnTo>
                        <a:pt x="287" y="107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" name=""/>
              <p:cNvGrpSpPr/>
              <p:nvPr/>
            </p:nvGrpSpPr>
            <p:grpSpPr>
              <a:xfrm>
                <a:off x="0" y="3262680"/>
                <a:ext cx="496080" cy="352440"/>
                <a:chOff x="0" y="3262680"/>
                <a:chExt cx="496080" cy="35244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0" y="3438000"/>
                  <a:ext cx="496080" cy="177120"/>
                </a:xfrm>
                <a:custGeom>
                  <a:avLst/>
                  <a:gdLst/>
                  <a:ahLst/>
                  <a:rect l="l" t="t" r="r" b="b"/>
                  <a:pathLst>
                    <a:path w="288" h="108">
                      <a:moveTo>
                        <a:pt x="0" y="107"/>
                      </a:moveTo>
                      <a:lnTo>
                        <a:pt x="186" y="107"/>
                      </a:lnTo>
                      <a:lnTo>
                        <a:pt x="287" y="0"/>
                      </a:lnTo>
                      <a:lnTo>
                        <a:pt x="0" y="0"/>
                      </a:lnTo>
                      <a:lnTo>
                        <a:pt x="0" y="107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0" y="3262680"/>
                  <a:ext cx="496080" cy="177120"/>
                </a:xfrm>
                <a:custGeom>
                  <a:avLst/>
                  <a:gdLst/>
                  <a:ahLst/>
                  <a:rect l="l" t="t" r="r" b="b"/>
                  <a:pathLst>
                    <a:path w="288" h="108">
                      <a:moveTo>
                        <a:pt x="0" y="0"/>
                      </a:moveTo>
                      <a:lnTo>
                        <a:pt x="186" y="0"/>
                      </a:lnTo>
                      <a:lnTo>
                        <a:pt x="287" y="107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0" y="2908440"/>
                <a:ext cx="496080" cy="355680"/>
                <a:chOff x="0" y="2908440"/>
                <a:chExt cx="496080" cy="35568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0" y="3087000"/>
                  <a:ext cx="496080" cy="177120"/>
                </a:xfrm>
                <a:custGeom>
                  <a:avLst/>
                  <a:gdLst/>
                  <a:ahLst/>
                  <a:rect l="l" t="t" r="r" b="b"/>
                  <a:pathLst>
                    <a:path w="288" h="108">
                      <a:moveTo>
                        <a:pt x="0" y="107"/>
                      </a:moveTo>
                      <a:lnTo>
                        <a:pt x="186" y="107"/>
                      </a:lnTo>
                      <a:lnTo>
                        <a:pt x="287" y="0"/>
                      </a:lnTo>
                      <a:lnTo>
                        <a:pt x="0" y="0"/>
                      </a:lnTo>
                      <a:lnTo>
                        <a:pt x="0" y="107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0" y="2908440"/>
                  <a:ext cx="496080" cy="180360"/>
                </a:xfrm>
                <a:custGeom>
                  <a:avLst/>
                  <a:gdLst/>
                  <a:ahLst/>
                  <a:rect l="l" t="t" r="r" b="b"/>
                  <a:pathLst>
                    <a:path w="288" h="110">
                      <a:moveTo>
                        <a:pt x="0" y="0"/>
                      </a:moveTo>
                      <a:lnTo>
                        <a:pt x="186" y="0"/>
                      </a:lnTo>
                      <a:lnTo>
                        <a:pt x="287" y="109"/>
                      </a:lnTo>
                      <a:lnTo>
                        <a:pt x="0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" name=""/>
            <p:cNvGrpSpPr/>
            <p:nvPr/>
          </p:nvGrpSpPr>
          <p:grpSpPr>
            <a:xfrm>
              <a:off x="8627040" y="2923200"/>
              <a:ext cx="504720" cy="1012320"/>
              <a:chOff x="8627040" y="2923200"/>
              <a:chExt cx="504720" cy="1012320"/>
            </a:xfrm>
          </p:grpSpPr>
          <p:grpSp>
            <p:nvGrpSpPr>
              <p:cNvPr id="40" name=""/>
              <p:cNvGrpSpPr/>
              <p:nvPr/>
            </p:nvGrpSpPr>
            <p:grpSpPr>
              <a:xfrm>
                <a:off x="8627040" y="3596040"/>
                <a:ext cx="504720" cy="339480"/>
                <a:chOff x="8627040" y="3596040"/>
                <a:chExt cx="504720" cy="33948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8627040" y="3764880"/>
                  <a:ext cx="504720" cy="170640"/>
                </a:xfrm>
                <a:custGeom>
                  <a:avLst/>
                  <a:gdLst/>
                  <a:ahLst/>
                  <a:rect l="l" t="t" r="r" b="b"/>
                  <a:pathLst>
                    <a:path w="293" h="104">
                      <a:moveTo>
                        <a:pt x="292" y="103"/>
                      </a:moveTo>
                      <a:lnTo>
                        <a:pt x="103" y="103"/>
                      </a:lnTo>
                      <a:lnTo>
                        <a:pt x="0" y="0"/>
                      </a:lnTo>
                      <a:lnTo>
                        <a:pt x="292" y="0"/>
                      </a:lnTo>
                      <a:lnTo>
                        <a:pt x="292" y="103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8627040" y="3596040"/>
                  <a:ext cx="504720" cy="170640"/>
                </a:xfrm>
                <a:custGeom>
                  <a:avLst/>
                  <a:gdLst/>
                  <a:ahLst/>
                  <a:rect l="l" t="t" r="r" b="b"/>
                  <a:pathLst>
                    <a:path w="293" h="104">
                      <a:moveTo>
                        <a:pt x="292" y="0"/>
                      </a:moveTo>
                      <a:lnTo>
                        <a:pt x="103" y="0"/>
                      </a:lnTo>
                      <a:lnTo>
                        <a:pt x="0" y="103"/>
                      </a:lnTo>
                      <a:lnTo>
                        <a:pt x="292" y="103"/>
                      </a:lnTo>
                      <a:lnTo>
                        <a:pt x="292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" name=""/>
              <p:cNvGrpSpPr/>
              <p:nvPr/>
            </p:nvGrpSpPr>
            <p:grpSpPr>
              <a:xfrm>
                <a:off x="8627040" y="3261600"/>
                <a:ext cx="504720" cy="335880"/>
                <a:chOff x="8627040" y="3261600"/>
                <a:chExt cx="504720" cy="33588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8627040" y="3430440"/>
                  <a:ext cx="504720" cy="167040"/>
                </a:xfrm>
                <a:custGeom>
                  <a:avLst/>
                  <a:gdLst/>
                  <a:ahLst/>
                  <a:rect l="l" t="t" r="r" b="b"/>
                  <a:pathLst>
                    <a:path w="293" h="102">
                      <a:moveTo>
                        <a:pt x="292" y="101"/>
                      </a:moveTo>
                      <a:lnTo>
                        <a:pt x="103" y="101"/>
                      </a:lnTo>
                      <a:lnTo>
                        <a:pt x="0" y="0"/>
                      </a:lnTo>
                      <a:lnTo>
                        <a:pt x="292" y="0"/>
                      </a:lnTo>
                      <a:lnTo>
                        <a:pt x="292" y="101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8627040" y="3261600"/>
                  <a:ext cx="504720" cy="170280"/>
                </a:xfrm>
                <a:custGeom>
                  <a:avLst/>
                  <a:gdLst/>
                  <a:ahLst/>
                  <a:rect l="l" t="t" r="r" b="b"/>
                  <a:pathLst>
                    <a:path w="293" h="104">
                      <a:moveTo>
                        <a:pt x="292" y="0"/>
                      </a:moveTo>
                      <a:lnTo>
                        <a:pt x="103" y="0"/>
                      </a:lnTo>
                      <a:lnTo>
                        <a:pt x="0" y="103"/>
                      </a:lnTo>
                      <a:lnTo>
                        <a:pt x="292" y="103"/>
                      </a:lnTo>
                      <a:lnTo>
                        <a:pt x="292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" name=""/>
              <p:cNvGrpSpPr/>
              <p:nvPr/>
            </p:nvGrpSpPr>
            <p:grpSpPr>
              <a:xfrm>
                <a:off x="8627040" y="2923200"/>
                <a:ext cx="504720" cy="339480"/>
                <a:chOff x="8627040" y="2923200"/>
                <a:chExt cx="504720" cy="33948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8627040" y="3092400"/>
                  <a:ext cx="504720" cy="170280"/>
                </a:xfrm>
                <a:custGeom>
                  <a:avLst/>
                  <a:gdLst/>
                  <a:ahLst/>
                  <a:rect l="l" t="t" r="r" b="b"/>
                  <a:pathLst>
                    <a:path w="293" h="104">
                      <a:moveTo>
                        <a:pt x="292" y="103"/>
                      </a:moveTo>
                      <a:lnTo>
                        <a:pt x="103" y="103"/>
                      </a:lnTo>
                      <a:lnTo>
                        <a:pt x="0" y="0"/>
                      </a:lnTo>
                      <a:lnTo>
                        <a:pt x="292" y="0"/>
                      </a:lnTo>
                      <a:lnTo>
                        <a:pt x="292" y="103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8627040" y="2923200"/>
                  <a:ext cx="504720" cy="170640"/>
                </a:xfrm>
                <a:custGeom>
                  <a:avLst/>
                  <a:gdLst/>
                  <a:ahLst/>
                  <a:rect l="l" t="t" r="r" b="b"/>
                  <a:pathLst>
                    <a:path w="293" h="104">
                      <a:moveTo>
                        <a:pt x="292" y="0"/>
                      </a:moveTo>
                      <a:lnTo>
                        <a:pt x="103" y="0"/>
                      </a:lnTo>
                      <a:lnTo>
                        <a:pt x="0" y="103"/>
                      </a:lnTo>
                      <a:lnTo>
                        <a:pt x="292" y="103"/>
                      </a:lnTo>
                      <a:lnTo>
                        <a:pt x="292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25040"/>
            <a:ext cx="7772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6120"/>
            <a:ext cx="7772400" cy="38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 fontScale="92000"/>
          </a:bodyPr>
          <a:p>
            <a:pPr marL="309600" indent="-309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4840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5000" indent="-207000">
              <a:spcBef>
                <a:spcPts val="799"/>
              </a:spcBef>
              <a:buClr>
                <a:srgbClr val="ff00ff"/>
              </a:buClr>
              <a:buFont typeface="Times New Roman"/>
              <a:buChar char="–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8640" indent="-20556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63360" indent="-205920">
              <a:spcBef>
                <a:spcPts val="799"/>
              </a:spcBef>
              <a:buClr>
                <a:srgbClr val="ff00ff"/>
              </a:buClr>
              <a:buFont typeface="Times New Roman"/>
              <a:buChar char="–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63360" indent="-205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63360" indent="-205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09720"/>
            <a:ext cx="914400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8400" spc="-1" strike="noStrike">
                <a:solidFill>
                  <a:srgbClr val="00ccff"/>
                </a:solidFill>
                <a:latin typeface="Eurostile"/>
              </a:rPr>
              <a:t>SHARE</a:t>
            </a:r>
            <a:endParaRPr b="0" lang="en-US" sz="1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0200" y="709200"/>
            <a:ext cx="7711920" cy="660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ertificate of Recogniti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229600" y="685800"/>
            <a:ext cx="38088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85800"/>
            <a:ext cx="38088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7240" y="1700280"/>
            <a:ext cx="7785360" cy="363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n the tenth anniversary of the convergence discussions between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SO/IEC JTC 1/SC 2/WG 2 and Unicode Inc.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RE recogniz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chael Ks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onvener of ISO/IEC JTC 1/SC 2/WG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r his leadership in the initial discussions that led to the creation of one universal code standard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SO/IEC 10646-1:1993 and Unicode Version 1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r his continuing efforts to keep the evolving ISO/IEC 10646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 the Unicode standards synchronized over the last 10 yea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ward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4 August,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436760" y="5751360"/>
            <a:ext cx="6282360" cy="547200"/>
            <a:chOff x="1436760" y="5751360"/>
            <a:chExt cx="6282360" cy="547200"/>
          </a:xfrm>
        </p:grpSpPr>
        <p:grpSp>
          <p:nvGrpSpPr>
            <p:cNvPr id="93" name=""/>
            <p:cNvGrpSpPr/>
            <p:nvPr/>
          </p:nvGrpSpPr>
          <p:grpSpPr>
            <a:xfrm>
              <a:off x="5172480" y="5751360"/>
              <a:ext cx="2546640" cy="547200"/>
              <a:chOff x="5172480" y="5751360"/>
              <a:chExt cx="2546640" cy="547200"/>
            </a:xfrm>
          </p:grpSpPr>
          <p:sp>
            <p:nvSpPr>
              <p:cNvPr id="94" name=""/>
              <p:cNvSpPr/>
              <p:nvPr/>
            </p:nvSpPr>
            <p:spPr>
              <a:xfrm>
                <a:off x="5172480" y="5751360"/>
                <a:ext cx="2525760" cy="54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53280" bIns="53280" anchor="ctr">
                <a:noAutofit/>
              </a:bodyPr>
              <a:p>
                <a:pPr algn="ctr">
                  <a:tabLst>
                    <a:tab algn="l" pos="0"/>
                    <a:tab algn="l" pos="1000080"/>
                    <a:tab algn="l" pos="2000160"/>
                    <a:tab algn="l" pos="3000240"/>
                    <a:tab algn="l" pos="4000680"/>
                    <a:tab algn="l" pos="5000760"/>
                    <a:tab algn="l" pos="6000840"/>
                    <a:tab algn="l" pos="7000920"/>
                    <a:tab algn="l" pos="8001000"/>
                    <a:tab algn="l" pos="9001080"/>
                    <a:tab algn="l" pos="1000116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Lillian Coope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000080"/>
                    <a:tab algn="l" pos="2000160"/>
                    <a:tab algn="l" pos="3000240"/>
                    <a:tab algn="l" pos="4000680"/>
                    <a:tab algn="l" pos="5000760"/>
                    <a:tab algn="l" pos="6000840"/>
                    <a:tab algn="l" pos="7000920"/>
                    <a:tab algn="l" pos="8001000"/>
                    <a:tab algn="l" pos="9001080"/>
                    <a:tab algn="l" pos="1000116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resid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33320" y="5751360"/>
                <a:ext cx="24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-52920" bIns="-52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1436760" y="5751360"/>
              <a:ext cx="2546640" cy="547200"/>
              <a:chOff x="1436760" y="5751360"/>
              <a:chExt cx="2546640" cy="547200"/>
            </a:xfrm>
          </p:grpSpPr>
          <p:sp>
            <p:nvSpPr>
              <p:cNvPr id="97" name=""/>
              <p:cNvSpPr/>
              <p:nvPr/>
            </p:nvSpPr>
            <p:spPr>
              <a:xfrm>
                <a:off x="1436760" y="5751360"/>
                <a:ext cx="2525760" cy="54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53280" bIns="53280" anchor="ctr">
                <a:noAutofit/>
              </a:bodyPr>
              <a:p>
                <a:pPr algn="ctr">
                  <a:tabLst>
                    <a:tab algn="l" pos="0"/>
                    <a:tab algn="l" pos="1000080"/>
                    <a:tab algn="l" pos="2000160"/>
                    <a:tab algn="l" pos="3000240"/>
                    <a:tab algn="l" pos="4000680"/>
                    <a:tab algn="l" pos="5000760"/>
                    <a:tab algn="l" pos="6000840"/>
                    <a:tab algn="l" pos="7000920"/>
                    <a:tab algn="l" pos="8001000"/>
                    <a:tab algn="l" pos="9001080"/>
                    <a:tab algn="l" pos="1000116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Pamela Taylo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000080"/>
                    <a:tab algn="l" pos="2000160"/>
                    <a:tab algn="l" pos="3000240"/>
                    <a:tab algn="l" pos="4000680"/>
                    <a:tab algn="l" pos="5000760"/>
                    <a:tab algn="l" pos="6000840"/>
                    <a:tab algn="l" pos="7000920"/>
                    <a:tab algn="l" pos="8001000"/>
                    <a:tab algn="l" pos="9001080"/>
                    <a:tab algn="l" pos="1000116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irector, Industry Rela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97600" y="5751360"/>
                <a:ext cx="24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-52920" bIns="-52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09720"/>
            <a:ext cx="914400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8400" spc="-1" strike="noStrike">
                <a:solidFill>
                  <a:srgbClr val="00ccff"/>
                </a:solidFill>
                <a:latin typeface="Eurostile"/>
              </a:rPr>
              <a:t>SHARE</a:t>
            </a:r>
            <a:endParaRPr b="0" lang="en-US" sz="1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00200" y="709200"/>
            <a:ext cx="7711920" cy="660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ertificate of Recogniti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29600" y="685800"/>
            <a:ext cx="38088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685800"/>
            <a:ext cx="38088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7240" y="1700280"/>
            <a:ext cx="7785360" cy="363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n the tenth anniversary of the convergence discussions between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SO/IEC JTC 1/SC 2/WG 2 and Unicode Inc.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RE recogniz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rk E. Dav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esident of Unicode, In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r his leadership in the initial discussions that led to the creation of one universal code standard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SO/IEC 10646-1:1993 and Unicode Version 1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r his continuing efforts to keep the evolving ISO/IEC 10646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 the Unicode standards synchronized over the last 10 yea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ward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4 August,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436760" y="5751360"/>
            <a:ext cx="6282360" cy="547200"/>
            <a:chOff x="1436760" y="5751360"/>
            <a:chExt cx="6282360" cy="547200"/>
          </a:xfrm>
        </p:grpSpPr>
        <p:grpSp>
          <p:nvGrpSpPr>
            <p:cNvPr id="105" name=""/>
            <p:cNvGrpSpPr/>
            <p:nvPr/>
          </p:nvGrpSpPr>
          <p:grpSpPr>
            <a:xfrm>
              <a:off x="5172480" y="5751360"/>
              <a:ext cx="2546640" cy="547200"/>
              <a:chOff x="5172480" y="5751360"/>
              <a:chExt cx="2546640" cy="547200"/>
            </a:xfrm>
          </p:grpSpPr>
          <p:sp>
            <p:nvSpPr>
              <p:cNvPr id="106" name=""/>
              <p:cNvSpPr/>
              <p:nvPr/>
            </p:nvSpPr>
            <p:spPr>
              <a:xfrm>
                <a:off x="5172480" y="5751360"/>
                <a:ext cx="2525760" cy="54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53280" bIns="53280" anchor="ctr">
                <a:noAutofit/>
              </a:bodyPr>
              <a:p>
                <a:pPr algn="ctr">
                  <a:tabLst>
                    <a:tab algn="l" pos="0"/>
                    <a:tab algn="l" pos="1000080"/>
                    <a:tab algn="l" pos="2000160"/>
                    <a:tab algn="l" pos="3000240"/>
                    <a:tab algn="l" pos="4000680"/>
                    <a:tab algn="l" pos="5000760"/>
                    <a:tab algn="l" pos="6000840"/>
                    <a:tab algn="l" pos="7000920"/>
                    <a:tab algn="l" pos="8001000"/>
                    <a:tab algn="l" pos="9001080"/>
                    <a:tab algn="l" pos="1000116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Lillian Coope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000080"/>
                    <a:tab algn="l" pos="2000160"/>
                    <a:tab algn="l" pos="3000240"/>
                    <a:tab algn="l" pos="4000680"/>
                    <a:tab algn="l" pos="5000760"/>
                    <a:tab algn="l" pos="6000840"/>
                    <a:tab algn="l" pos="7000920"/>
                    <a:tab algn="l" pos="8001000"/>
                    <a:tab algn="l" pos="9001080"/>
                    <a:tab algn="l" pos="1000116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resid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233320" y="5751360"/>
                <a:ext cx="24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-52920" bIns="-52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1436760" y="5751360"/>
              <a:ext cx="2546640" cy="547200"/>
              <a:chOff x="1436760" y="5751360"/>
              <a:chExt cx="2546640" cy="547200"/>
            </a:xfrm>
          </p:grpSpPr>
          <p:sp>
            <p:nvSpPr>
              <p:cNvPr id="109" name=""/>
              <p:cNvSpPr/>
              <p:nvPr/>
            </p:nvSpPr>
            <p:spPr>
              <a:xfrm>
                <a:off x="1436760" y="5751360"/>
                <a:ext cx="2525760" cy="54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53280" bIns="53280" anchor="ctr">
                <a:noAutofit/>
              </a:bodyPr>
              <a:p>
                <a:pPr algn="ctr">
                  <a:tabLst>
                    <a:tab algn="l" pos="0"/>
                    <a:tab algn="l" pos="1000080"/>
                    <a:tab algn="l" pos="2000160"/>
                    <a:tab algn="l" pos="3000240"/>
                    <a:tab algn="l" pos="4000680"/>
                    <a:tab algn="l" pos="5000760"/>
                    <a:tab algn="l" pos="6000840"/>
                    <a:tab algn="l" pos="7000920"/>
                    <a:tab algn="l" pos="8001000"/>
                    <a:tab algn="l" pos="9001080"/>
                    <a:tab algn="l" pos="1000116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Pamela Taylo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000080"/>
                    <a:tab algn="l" pos="2000160"/>
                    <a:tab algn="l" pos="3000240"/>
                    <a:tab algn="l" pos="4000680"/>
                    <a:tab algn="l" pos="5000760"/>
                    <a:tab algn="l" pos="6000840"/>
                    <a:tab algn="l" pos="7000920"/>
                    <a:tab algn="l" pos="8001000"/>
                    <a:tab algn="l" pos="9001080"/>
                    <a:tab algn="l" pos="1000116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irector, Industry Rela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97600" y="5751360"/>
                <a:ext cx="24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-52920" bIns="-52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9T22:47:14Z</dcterms:created>
  <dc:creator>Edwin Hart</dc:creator>
  <dc:description>9.2 x 7.25
gold border, black lettering, lt. blue water mark, lighter blue</dc:description>
  <dc:language>en-US</dc:language>
  <cp:lastModifiedBy>Edwin F. Hart</cp:lastModifiedBy>
  <cp:lastPrinted>1995-12-19T22:36:46Z</cp:lastPrinted>
  <dcterms:modified xsi:type="dcterms:W3CDTF">2001-07-16T13:01:12Z</dcterms:modified>
  <cp:revision>34</cp:revision>
  <dc:subject/>
  <dc:title>Certificate of Appreciation</dc:title>
</cp:coreProperties>
</file>