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413750" cy="6630988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715140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0000" y="3853080"/>
            <a:ext cx="715140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" y="385308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94800" y="385308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48120" y="191916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66240" y="191916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30000" y="385308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48120" y="385308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66240" y="385308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30000" y="1919160"/>
            <a:ext cx="7151400" cy="37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715140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0000" y="699840"/>
            <a:ext cx="71514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0000" y="385308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94800" y="385308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0000" y="3853080"/>
            <a:ext cx="715140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00960" cy="6616800"/>
            <a:chOff x="0" y="0"/>
            <a:chExt cx="8400960" cy="66168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4192560" cy="331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316320"/>
              <a:ext cx="4191120" cy="3300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206960" y="0"/>
              <a:ext cx="4194000" cy="3316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06960" y="3316320"/>
              <a:ext cx="4194000" cy="3300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270000" y="318960"/>
            <a:ext cx="7870680" cy="599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5040" y="411120"/>
            <a:ext cx="7680240" cy="5807160"/>
          </a:xfrm>
          <a:prstGeom prst="rect">
            <a:avLst/>
          </a:prstGeom>
          <a:solidFill>
            <a:srgbClr val="ff9900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34880" y="488880"/>
            <a:ext cx="7535880" cy="564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0"/>
            <a:ext cx="8402760" cy="6618240"/>
            <a:chOff x="0" y="0"/>
            <a:chExt cx="8402760" cy="6618240"/>
          </a:xfrm>
        </p:grpSpPr>
        <p:grpSp>
          <p:nvGrpSpPr>
            <p:cNvPr id="9" name=""/>
            <p:cNvGrpSpPr/>
            <p:nvPr/>
          </p:nvGrpSpPr>
          <p:grpSpPr>
            <a:xfrm>
              <a:off x="3774960" y="0"/>
              <a:ext cx="827280" cy="515880"/>
              <a:chOff x="3774960" y="0"/>
              <a:chExt cx="827280" cy="51588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4325760" y="0"/>
                <a:ext cx="276480" cy="515880"/>
                <a:chOff x="4325760" y="0"/>
                <a:chExt cx="276480" cy="5158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4460760" y="0"/>
                  <a:ext cx="141480" cy="515880"/>
                </a:xfrm>
                <a:custGeom>
                  <a:avLst/>
                  <a:gdLst/>
                  <a:ahLst/>
                  <a:rect l="l" t="t" r="r" b="b"/>
                  <a:pathLst>
                    <a:path w="89" h="325">
                      <a:moveTo>
                        <a:pt x="88" y="0"/>
                      </a:moveTo>
                      <a:lnTo>
                        <a:pt x="88" y="210"/>
                      </a:lnTo>
                      <a:lnTo>
                        <a:pt x="0" y="324"/>
                      </a:lnTo>
                      <a:lnTo>
                        <a:pt x="0" y="0"/>
                      </a:lnTo>
                      <a:lnTo>
                        <a:pt x="88" y="0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325760" y="0"/>
                  <a:ext cx="136800" cy="515880"/>
                </a:xfrm>
                <a:custGeom>
                  <a:avLst/>
                  <a:gdLst/>
                  <a:ahLst/>
                  <a:rect l="l" t="t" r="r" b="b"/>
                  <a:pathLst>
                    <a:path w="86" h="325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85" y="324"/>
                      </a:lnTo>
                      <a:lnTo>
                        <a:pt x="8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4049640" y="0"/>
                <a:ext cx="277920" cy="515880"/>
                <a:chOff x="4049640" y="0"/>
                <a:chExt cx="277920" cy="51588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4187880" y="0"/>
                  <a:ext cx="139680" cy="515880"/>
                </a:xfrm>
                <a:custGeom>
                  <a:avLst/>
                  <a:gdLst/>
                  <a:ahLst/>
                  <a:rect l="l" t="t" r="r" b="b"/>
                  <a:pathLst>
                    <a:path w="88" h="325">
                      <a:moveTo>
                        <a:pt x="87" y="0"/>
                      </a:moveTo>
                      <a:lnTo>
                        <a:pt x="87" y="210"/>
                      </a:lnTo>
                      <a:lnTo>
                        <a:pt x="0" y="324"/>
                      </a:lnTo>
                      <a:lnTo>
                        <a:pt x="0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4049640" y="0"/>
                  <a:ext cx="139680" cy="515880"/>
                </a:xfrm>
                <a:custGeom>
                  <a:avLst/>
                  <a:gdLst/>
                  <a:ahLst/>
                  <a:rect l="l" t="t" r="r" b="b"/>
                  <a:pathLst>
                    <a:path w="88" h="325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87" y="324"/>
                      </a:lnTo>
                      <a:lnTo>
                        <a:pt x="8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3774960" y="0"/>
                <a:ext cx="276480" cy="515880"/>
                <a:chOff x="3774960" y="0"/>
                <a:chExt cx="276480" cy="51588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3914640" y="0"/>
                  <a:ext cx="136800" cy="515880"/>
                </a:xfrm>
                <a:custGeom>
                  <a:avLst/>
                  <a:gdLst/>
                  <a:ahLst/>
                  <a:rect l="l" t="t" r="r" b="b"/>
                  <a:pathLst>
                    <a:path w="86" h="325">
                      <a:moveTo>
                        <a:pt x="85" y="0"/>
                      </a:moveTo>
                      <a:lnTo>
                        <a:pt x="85" y="210"/>
                      </a:lnTo>
                      <a:lnTo>
                        <a:pt x="0" y="324"/>
                      </a:lnTo>
                      <a:lnTo>
                        <a:pt x="0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74960" y="0"/>
                  <a:ext cx="141480" cy="515880"/>
                </a:xfrm>
                <a:custGeom>
                  <a:avLst/>
                  <a:gdLst/>
                  <a:ahLst/>
                  <a:rect l="l" t="t" r="r" b="b"/>
                  <a:pathLst>
                    <a:path w="89" h="325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88" y="324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" name=""/>
            <p:cNvGrpSpPr/>
            <p:nvPr/>
          </p:nvGrpSpPr>
          <p:grpSpPr>
            <a:xfrm>
              <a:off x="3774960" y="6114960"/>
              <a:ext cx="827280" cy="503280"/>
              <a:chOff x="3774960" y="6114960"/>
              <a:chExt cx="827280" cy="503280"/>
            </a:xfrm>
          </p:grpSpPr>
          <p:grpSp>
            <p:nvGrpSpPr>
              <p:cNvPr id="20" name=""/>
              <p:cNvGrpSpPr/>
              <p:nvPr/>
            </p:nvGrpSpPr>
            <p:grpSpPr>
              <a:xfrm>
                <a:off x="4325760" y="6114960"/>
                <a:ext cx="276480" cy="503280"/>
                <a:chOff x="4325760" y="6114960"/>
                <a:chExt cx="276480" cy="50328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4460760" y="6114960"/>
                  <a:ext cx="141480" cy="503280"/>
                </a:xfrm>
                <a:custGeom>
                  <a:avLst/>
                  <a:gdLst/>
                  <a:ahLst/>
                  <a:rect l="l" t="t" r="r" b="b"/>
                  <a:pathLst>
                    <a:path w="89" h="317">
                      <a:moveTo>
                        <a:pt x="88" y="316"/>
                      </a:moveTo>
                      <a:lnTo>
                        <a:pt x="88" y="111"/>
                      </a:lnTo>
                      <a:lnTo>
                        <a:pt x="0" y="0"/>
                      </a:lnTo>
                      <a:lnTo>
                        <a:pt x="0" y="316"/>
                      </a:lnTo>
                      <a:lnTo>
                        <a:pt x="88" y="316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4325760" y="6114960"/>
                  <a:ext cx="136800" cy="503280"/>
                </a:xfrm>
                <a:custGeom>
                  <a:avLst/>
                  <a:gdLst/>
                  <a:ahLst/>
                  <a:rect l="l" t="t" r="r" b="b"/>
                  <a:pathLst>
                    <a:path w="86" h="317">
                      <a:moveTo>
                        <a:pt x="0" y="316"/>
                      </a:moveTo>
                      <a:lnTo>
                        <a:pt x="0" y="111"/>
                      </a:lnTo>
                      <a:lnTo>
                        <a:pt x="85" y="0"/>
                      </a:lnTo>
                      <a:lnTo>
                        <a:pt x="85" y="316"/>
                      </a:lnTo>
                      <a:lnTo>
                        <a:pt x="0" y="316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4049640" y="6114960"/>
                <a:ext cx="277920" cy="503280"/>
                <a:chOff x="4049640" y="6114960"/>
                <a:chExt cx="277920" cy="5032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4187880" y="6114960"/>
                  <a:ext cx="139680" cy="503280"/>
                </a:xfrm>
                <a:custGeom>
                  <a:avLst/>
                  <a:gdLst/>
                  <a:ahLst/>
                  <a:rect l="l" t="t" r="r" b="b"/>
                  <a:pathLst>
                    <a:path w="88" h="317">
                      <a:moveTo>
                        <a:pt x="87" y="316"/>
                      </a:moveTo>
                      <a:lnTo>
                        <a:pt x="87" y="111"/>
                      </a:lnTo>
                      <a:lnTo>
                        <a:pt x="0" y="0"/>
                      </a:lnTo>
                      <a:lnTo>
                        <a:pt x="0" y="316"/>
                      </a:lnTo>
                      <a:lnTo>
                        <a:pt x="87" y="316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4049640" y="6114960"/>
                  <a:ext cx="139680" cy="503280"/>
                </a:xfrm>
                <a:custGeom>
                  <a:avLst/>
                  <a:gdLst/>
                  <a:ahLst/>
                  <a:rect l="l" t="t" r="r" b="b"/>
                  <a:pathLst>
                    <a:path w="88" h="317">
                      <a:moveTo>
                        <a:pt x="0" y="316"/>
                      </a:moveTo>
                      <a:lnTo>
                        <a:pt x="0" y="111"/>
                      </a:lnTo>
                      <a:lnTo>
                        <a:pt x="87" y="0"/>
                      </a:lnTo>
                      <a:lnTo>
                        <a:pt x="87" y="316"/>
                      </a:lnTo>
                      <a:lnTo>
                        <a:pt x="0" y="316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3774960" y="6114960"/>
                <a:ext cx="276480" cy="503280"/>
                <a:chOff x="3774960" y="6114960"/>
                <a:chExt cx="276480" cy="50328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3914640" y="6114960"/>
                  <a:ext cx="136800" cy="503280"/>
                </a:xfrm>
                <a:custGeom>
                  <a:avLst/>
                  <a:gdLst/>
                  <a:ahLst/>
                  <a:rect l="l" t="t" r="r" b="b"/>
                  <a:pathLst>
                    <a:path w="86" h="317">
                      <a:moveTo>
                        <a:pt x="85" y="316"/>
                      </a:moveTo>
                      <a:lnTo>
                        <a:pt x="85" y="111"/>
                      </a:lnTo>
                      <a:lnTo>
                        <a:pt x="0" y="0"/>
                      </a:lnTo>
                      <a:lnTo>
                        <a:pt x="0" y="316"/>
                      </a:lnTo>
                      <a:lnTo>
                        <a:pt x="85" y="316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774960" y="6114960"/>
                  <a:ext cx="141480" cy="503280"/>
                </a:xfrm>
                <a:custGeom>
                  <a:avLst/>
                  <a:gdLst/>
                  <a:ahLst/>
                  <a:rect l="l" t="t" r="r" b="b"/>
                  <a:pathLst>
                    <a:path w="89" h="317">
                      <a:moveTo>
                        <a:pt x="0" y="316"/>
                      </a:moveTo>
                      <a:lnTo>
                        <a:pt x="0" y="111"/>
                      </a:lnTo>
                      <a:lnTo>
                        <a:pt x="88" y="0"/>
                      </a:lnTo>
                      <a:lnTo>
                        <a:pt x="88" y="316"/>
                      </a:lnTo>
                      <a:lnTo>
                        <a:pt x="0" y="316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" name=""/>
            <p:cNvGrpSpPr/>
            <p:nvPr/>
          </p:nvGrpSpPr>
          <p:grpSpPr>
            <a:xfrm>
              <a:off x="0" y="2811600"/>
              <a:ext cx="457200" cy="1025280"/>
              <a:chOff x="0" y="2811600"/>
              <a:chExt cx="457200" cy="1025280"/>
            </a:xfrm>
          </p:grpSpPr>
          <p:grpSp>
            <p:nvGrpSpPr>
              <p:cNvPr id="30" name=""/>
              <p:cNvGrpSpPr/>
              <p:nvPr/>
            </p:nvGrpSpPr>
            <p:grpSpPr>
              <a:xfrm>
                <a:off x="0" y="3494160"/>
                <a:ext cx="457200" cy="342720"/>
                <a:chOff x="0" y="3494160"/>
                <a:chExt cx="457200" cy="34272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0" y="3664080"/>
                  <a:ext cx="457200" cy="172800"/>
                </a:xfrm>
                <a:custGeom>
                  <a:avLst/>
                  <a:gdLst/>
                  <a:ahLst/>
                  <a:rect l="l" t="t" r="r" b="b"/>
                  <a:pathLst>
                    <a:path w="288" h="109">
                      <a:moveTo>
                        <a:pt x="0" y="108"/>
                      </a:moveTo>
                      <a:lnTo>
                        <a:pt x="186" y="108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108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3494160"/>
                  <a:ext cx="457200" cy="17136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0"/>
                      </a:moveTo>
                      <a:lnTo>
                        <a:pt x="186" y="0"/>
                      </a:lnTo>
                      <a:lnTo>
                        <a:pt x="287" y="107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0" y="3154320"/>
                <a:ext cx="457200" cy="341280"/>
                <a:chOff x="0" y="3154320"/>
                <a:chExt cx="457200" cy="34128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0" y="3324240"/>
                  <a:ext cx="457200" cy="17136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107"/>
                      </a:moveTo>
                      <a:lnTo>
                        <a:pt x="186" y="107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107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3154320"/>
                  <a:ext cx="457200" cy="17136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0"/>
                      </a:moveTo>
                      <a:lnTo>
                        <a:pt x="186" y="0"/>
                      </a:lnTo>
                      <a:lnTo>
                        <a:pt x="287" y="107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0" y="2811600"/>
                <a:ext cx="457200" cy="344520"/>
                <a:chOff x="0" y="2811600"/>
                <a:chExt cx="457200" cy="34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0" y="2984400"/>
                  <a:ext cx="457200" cy="17172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107"/>
                      </a:moveTo>
                      <a:lnTo>
                        <a:pt x="186" y="107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107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0" y="2811600"/>
                  <a:ext cx="457200" cy="174600"/>
                </a:xfrm>
                <a:custGeom>
                  <a:avLst/>
                  <a:gdLst/>
                  <a:ahLst/>
                  <a:rect l="l" t="t" r="r" b="b"/>
                  <a:pathLst>
                    <a:path w="288" h="110">
                      <a:moveTo>
                        <a:pt x="0" y="0"/>
                      </a:moveTo>
                      <a:lnTo>
                        <a:pt x="186" y="0"/>
                      </a:lnTo>
                      <a:lnTo>
                        <a:pt x="287" y="109"/>
                      </a:lnTo>
                      <a:lnTo>
                        <a:pt x="0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" name=""/>
            <p:cNvGrpSpPr/>
            <p:nvPr/>
          </p:nvGrpSpPr>
          <p:grpSpPr>
            <a:xfrm>
              <a:off x="7937640" y="2825640"/>
              <a:ext cx="465120" cy="979560"/>
              <a:chOff x="7937640" y="2825640"/>
              <a:chExt cx="465120" cy="979560"/>
            </a:xfrm>
          </p:grpSpPr>
          <p:grpSp>
            <p:nvGrpSpPr>
              <p:cNvPr id="40" name=""/>
              <p:cNvGrpSpPr/>
              <p:nvPr/>
            </p:nvGrpSpPr>
            <p:grpSpPr>
              <a:xfrm>
                <a:off x="7937640" y="3476520"/>
                <a:ext cx="465120" cy="328680"/>
                <a:chOff x="7937640" y="3476520"/>
                <a:chExt cx="465120" cy="32868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7937640" y="3639960"/>
                  <a:ext cx="465120" cy="16524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103"/>
                      </a:moveTo>
                      <a:lnTo>
                        <a:pt x="103" y="103"/>
                      </a:lnTo>
                      <a:lnTo>
                        <a:pt x="0" y="0"/>
                      </a:lnTo>
                      <a:lnTo>
                        <a:pt x="292" y="0"/>
                      </a:lnTo>
                      <a:lnTo>
                        <a:pt x="292" y="103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937640" y="3476520"/>
                  <a:ext cx="465120" cy="16524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0"/>
                      </a:moveTo>
                      <a:lnTo>
                        <a:pt x="103" y="0"/>
                      </a:lnTo>
                      <a:lnTo>
                        <a:pt x="0" y="103"/>
                      </a:lnTo>
                      <a:lnTo>
                        <a:pt x="292" y="103"/>
                      </a:lnTo>
                      <a:lnTo>
                        <a:pt x="292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" name=""/>
              <p:cNvGrpSpPr/>
              <p:nvPr/>
            </p:nvGrpSpPr>
            <p:grpSpPr>
              <a:xfrm>
                <a:off x="7937640" y="3152880"/>
                <a:ext cx="465120" cy="325440"/>
                <a:chOff x="7937640" y="3152880"/>
                <a:chExt cx="465120" cy="3254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7937640" y="3316320"/>
                  <a:ext cx="465120" cy="162000"/>
                </a:xfrm>
                <a:custGeom>
                  <a:avLst/>
                  <a:gdLst/>
                  <a:ahLst/>
                  <a:rect l="l" t="t" r="r" b="b"/>
                  <a:pathLst>
                    <a:path w="293" h="102">
                      <a:moveTo>
                        <a:pt x="292" y="101"/>
                      </a:moveTo>
                      <a:lnTo>
                        <a:pt x="103" y="101"/>
                      </a:lnTo>
                      <a:lnTo>
                        <a:pt x="0" y="0"/>
                      </a:lnTo>
                      <a:lnTo>
                        <a:pt x="292" y="0"/>
                      </a:lnTo>
                      <a:lnTo>
                        <a:pt x="292" y="101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937640" y="3152880"/>
                  <a:ext cx="465120" cy="16488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0"/>
                      </a:moveTo>
                      <a:lnTo>
                        <a:pt x="103" y="0"/>
                      </a:lnTo>
                      <a:lnTo>
                        <a:pt x="0" y="103"/>
                      </a:lnTo>
                      <a:lnTo>
                        <a:pt x="292" y="103"/>
                      </a:lnTo>
                      <a:lnTo>
                        <a:pt x="292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7937640" y="2825640"/>
                <a:ext cx="465120" cy="328680"/>
                <a:chOff x="7937640" y="2825640"/>
                <a:chExt cx="465120" cy="328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7937640" y="2989440"/>
                  <a:ext cx="465120" cy="16488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103"/>
                      </a:moveTo>
                      <a:lnTo>
                        <a:pt x="103" y="103"/>
                      </a:lnTo>
                      <a:lnTo>
                        <a:pt x="0" y="0"/>
                      </a:lnTo>
                      <a:lnTo>
                        <a:pt x="292" y="0"/>
                      </a:lnTo>
                      <a:lnTo>
                        <a:pt x="292" y="103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937640" y="2825640"/>
                  <a:ext cx="465120" cy="16524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0"/>
                      </a:moveTo>
                      <a:lnTo>
                        <a:pt x="103" y="0"/>
                      </a:lnTo>
                      <a:lnTo>
                        <a:pt x="0" y="103"/>
                      </a:lnTo>
                      <a:lnTo>
                        <a:pt x="292" y="103"/>
                      </a:lnTo>
                      <a:lnTo>
                        <a:pt x="292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30000" y="1919160"/>
            <a:ext cx="715140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9000"/>
          </a:bodyPr>
          <a:p>
            <a:pPr marL="304560" indent="-304560">
              <a:spcBef>
                <a:spcPts val="726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1320" indent="-243360">
              <a:spcBef>
                <a:spcPts val="726"/>
              </a:spcBef>
              <a:buClr>
                <a:srgbClr val="ff00ff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8440" indent="-204480">
              <a:spcBef>
                <a:spcPts val="726"/>
              </a:spcBef>
              <a:buClr>
                <a:srgbClr val="ff00ff"/>
              </a:buClr>
              <a:buFont typeface="Times New Roman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5600" indent="-202680">
              <a:spcBef>
                <a:spcPts val="726"/>
              </a:spcBef>
              <a:buClr>
                <a:srgbClr val="ff00ff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2400" indent="-202680">
              <a:spcBef>
                <a:spcPts val="726"/>
              </a:spcBef>
              <a:buClr>
                <a:srgbClr val="ff00ff"/>
              </a:buClr>
              <a:buFont typeface="Times New Roman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2400" indent="-2026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2400" indent="-2026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749600"/>
            <a:ext cx="841212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800" spc="-1" strike="noStrike">
                <a:solidFill>
                  <a:srgbClr val="00ccff"/>
                </a:solidFill>
                <a:latin typeface="Eurostile"/>
              </a:rPr>
              <a:t>SHARE</a:t>
            </a: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040" y="685440"/>
            <a:ext cx="7094520" cy="63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ificate of Recog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0800" y="663480"/>
            <a:ext cx="35100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0680" y="663480"/>
            <a:ext cx="35064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31440" y="1643040"/>
            <a:ext cx="7162920" cy="35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the tenth anniversary of the convergence discussions betwe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/IEC JTC 1/SC 2/WG 2 and Unicode Inc.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 recogn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K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er of ISO/IEC JTC 1/SC 2/WG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his leadership in the initial discussions that led to the creation of one universal code standard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/IEC 10646-1:1993 and Unicode Version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his continuing efforts to keep the evolving ISO/IEC 10646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 Unicode standards synchronized over the last 10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August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22280" y="5560920"/>
            <a:ext cx="5780160" cy="528480"/>
            <a:chOff x="1322280" y="5560920"/>
            <a:chExt cx="5780160" cy="528480"/>
          </a:xfrm>
        </p:grpSpPr>
        <p:grpSp>
          <p:nvGrpSpPr>
            <p:cNvPr id="93" name=""/>
            <p:cNvGrpSpPr/>
            <p:nvPr/>
          </p:nvGrpSpPr>
          <p:grpSpPr>
            <a:xfrm>
              <a:off x="4759200" y="5560920"/>
              <a:ext cx="2343240" cy="528480"/>
              <a:chOff x="4759200" y="5560920"/>
              <a:chExt cx="2343240" cy="528480"/>
            </a:xfrm>
          </p:grpSpPr>
          <p:sp>
            <p:nvSpPr>
              <p:cNvPr id="94" name=""/>
              <p:cNvSpPr/>
              <p:nvPr/>
            </p:nvSpPr>
            <p:spPr>
              <a:xfrm>
                <a:off x="4759200" y="5560920"/>
                <a:ext cx="232380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illian Coop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reside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15360" y="5560920"/>
                <a:ext cx="228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322280" y="5560920"/>
              <a:ext cx="2343240" cy="528480"/>
              <a:chOff x="1322280" y="5560920"/>
              <a:chExt cx="2343240" cy="528480"/>
            </a:xfrm>
          </p:grpSpPr>
          <p:sp>
            <p:nvSpPr>
              <p:cNvPr id="97" name=""/>
              <p:cNvSpPr/>
              <p:nvPr/>
            </p:nvSpPr>
            <p:spPr>
              <a:xfrm>
                <a:off x="1322280" y="5560920"/>
                <a:ext cx="232380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mela Tayl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Director, Industry Relation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78440" y="5560920"/>
                <a:ext cx="228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749600"/>
            <a:ext cx="841212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800" spc="-1" strike="noStrike">
                <a:solidFill>
                  <a:srgbClr val="00ccff"/>
                </a:solidFill>
                <a:latin typeface="Eurostile"/>
              </a:rPr>
              <a:t>SHARE</a:t>
            </a:r>
            <a:endParaRPr b="0" lang="en-US" sz="1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4040" y="685440"/>
            <a:ext cx="7094520" cy="63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ificate of Recog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70800" y="663480"/>
            <a:ext cx="35100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680" y="663480"/>
            <a:ext cx="35064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31440" y="1643040"/>
            <a:ext cx="7162920" cy="35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the tenth anniversary of the convergence discussions betwe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/IEC JTC 1/SC 2/WG 2 and Unicode Inc.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 recogn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E.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of Unicode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his leadership in the initial discussions that led to the creation of one universal code standard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/IEC 10646-1:1993 and Unicode Version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his continuing efforts to keep the evolving ISO/IEC 10646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 Unicode standards synchronized over the last 10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August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22280" y="5560920"/>
            <a:ext cx="5780160" cy="528480"/>
            <a:chOff x="1322280" y="5560920"/>
            <a:chExt cx="5780160" cy="528480"/>
          </a:xfrm>
        </p:grpSpPr>
        <p:grpSp>
          <p:nvGrpSpPr>
            <p:cNvPr id="105" name=""/>
            <p:cNvGrpSpPr/>
            <p:nvPr/>
          </p:nvGrpSpPr>
          <p:grpSpPr>
            <a:xfrm>
              <a:off x="4759200" y="5560920"/>
              <a:ext cx="2343240" cy="528480"/>
              <a:chOff x="4759200" y="5560920"/>
              <a:chExt cx="2343240" cy="528480"/>
            </a:xfrm>
          </p:grpSpPr>
          <p:sp>
            <p:nvSpPr>
              <p:cNvPr id="106" name=""/>
              <p:cNvSpPr/>
              <p:nvPr/>
            </p:nvSpPr>
            <p:spPr>
              <a:xfrm>
                <a:off x="4759200" y="5560920"/>
                <a:ext cx="232380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illian Coop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reside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15360" y="5560920"/>
                <a:ext cx="228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322280" y="5560920"/>
              <a:ext cx="2343240" cy="528480"/>
              <a:chOff x="1322280" y="5560920"/>
              <a:chExt cx="2343240" cy="528480"/>
            </a:xfrm>
          </p:grpSpPr>
          <p:sp>
            <p:nvSpPr>
              <p:cNvPr id="109" name=""/>
              <p:cNvSpPr/>
              <p:nvPr/>
            </p:nvSpPr>
            <p:spPr>
              <a:xfrm>
                <a:off x="1322280" y="5560920"/>
                <a:ext cx="232380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mela Tayl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Director, Industry Relation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78440" y="5560920"/>
                <a:ext cx="228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9T22:47:14Z</dcterms:created>
  <dc:creator>Edwin Hart</dc:creator>
  <dc:description>9.2 x 7.25
gold border, black lettering, lt. blue water mark, lighter blue</dc:description>
  <dc:language>en-US</dc:language>
  <cp:lastModifiedBy>Edwin F. Hart</cp:lastModifiedBy>
  <cp:lastPrinted>1995-12-19T22:36:46Z</cp:lastPrinted>
  <dcterms:modified xsi:type="dcterms:W3CDTF">2001-07-09T18:11:53Z</dcterms:modified>
  <cp:revision>33</cp:revision>
  <dc:subject/>
  <dc:title>Certificate of Appreciation</dc:title>
</cp:coreProperties>
</file>